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272-0517-4284-9EE6-514E5371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D18-B58B-4389-A363-F96850FF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C81-D12B-4657-9444-3778A9D3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5FE-4F35-42E9-8AE7-0E2D9F6A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1ABB-E401-41C8-AAB3-B044449D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3AD2-6D2E-4654-8D5C-0B1CA34E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CB57-22F9-417B-A1A0-CA6F48B3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389F-76AC-4E1A-8D00-B532EF88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C994-4718-467A-AE7A-EEF6AD0E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9169-CF04-4474-A1F8-E6495064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45EE-F2D0-46F6-9ACE-0EABCBF6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4BC-C594-4FDC-B980-F4275621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550F-EE1B-4700-8163-C1090FC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FF36-6705-4462-9957-BFFCEE80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51CE-7F87-4403-9A07-A97171CA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6A08-7ADD-440B-A8C9-B9A8C396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D966-D722-4AC3-B411-338A88FF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913-91AE-4BDB-89F6-98E1FBF8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F7A-4FDD-4EEB-8BE9-A3A7E46D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141-62A6-4AF7-A77C-82F42965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0F1-2C5E-4A35-B6CD-93039804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755-96AE-4A36-968D-C31D2D43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947-A1F2-42D6-8883-81C1834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13D-2D5C-4325-B633-95979F1A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94D2-5EA5-4920-B51C-6C823EF115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2BF0-6FB1-4944-8D88-8368A0398F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yramids.ru/DrEgypt.htm" TargetMode="External"/><Relationship Id="rId2" Type="http://schemas.openxmlformats.org/officeDocument/2006/relationships/hyperlink" Target="http://www.pavluchenkov.ru/religia_egipta/zagrobniy_cult/index.html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Загробная жизнь в Древнем Египте: гробницы и саркофаги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7" descr="e5-4"/>
          <p:cNvPicPr/>
          <p:nvPr/>
        </p:nvPicPr>
        <p:blipFill>
          <a:blip r:embed="rId1"/>
          <a:stretch/>
        </p:blipFill>
        <p:spPr>
          <a:xfrm>
            <a:off x="88596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 уче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«Б»класса Бар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т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Гробницы в Долине Царе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ружение 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мня, в кото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анится гроб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хом умершег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ыпальница. Всего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евнем Егип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ено 62 гробн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Содержимое 4" descr="098.jpg"/>
          <p:cNvPicPr/>
          <p:nvPr/>
        </p:nvPicPr>
        <p:blipFill>
          <a:blip r:embed="rId1"/>
          <a:stretch/>
        </p:blipFill>
        <p:spPr>
          <a:xfrm>
            <a:off x="5105520" y="1752480"/>
            <a:ext cx="3429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Используемые ресурсы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61760" y="15238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yramids.ru/DrEgypt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pavluchenkov.ru/religia_egipta/zagrobniy_cult/index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tour-to-egypt.ru/2008/11/28/sarkofag-egipe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ww.bestreferat.ru/referat-43953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сть ли жизнь после смерти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т вопрос волнует человечество уже не один век, но никто пока не нашел на него однозначного ответ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ко! На Земле есть загадочная и прекрасная страна, где скажут однозначно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С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эта страна -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ревний Египет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9" descr="sherit24"/>
          <p:cNvPicPr/>
          <p:nvPr/>
        </p:nvPicPr>
        <p:blipFill>
          <a:blip r:embed="rId1"/>
          <a:stretch/>
        </p:blipFill>
        <p:spPr>
          <a:xfrm>
            <a:off x="990720" y="2971800"/>
            <a:ext cx="69339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то такой Анубис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УБИ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греческое) 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П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египетское). В египетской мифологии бог-покровитель умерших, хранитель ядов и лекарств, "Хозяин священной страны" (т.е. некрополя) и "тот, кто перед залом богов" (в котором проводилось мумифицирование). Как покровитель магии, обладал даром предвидения. Анубис считался судьей бог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67п"/>
          <p:cNvPicPr/>
          <p:nvPr/>
        </p:nvPicPr>
        <p:blipFill>
          <a:blip r:embed="rId1"/>
          <a:stretch/>
        </p:blipFill>
        <p:spPr>
          <a:xfrm>
            <a:off x="4648320" y="1447920"/>
            <a:ext cx="3960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то такой Осирис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Царь мертвых. Осирис возглавлял загробный суд, на который рано или поздно должен был явиться каждый мужчина и каждая женщина, и где взвешивались человеческие сердца, а противовесом служило перышко Правды. Египтяне надеялись, что, прибегнув к магии, они после смерти уподобятся Осирису, царю подземного мира, а в стране блаженных могут даже превратиться в самого Осириса, который победил смер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8" descr="осирис 2"/>
          <p:cNvPicPr/>
          <p:nvPr/>
        </p:nvPicPr>
        <p:blipFill>
          <a:blip r:embed="rId1"/>
          <a:stretch/>
        </p:blipFill>
        <p:spPr>
          <a:xfrm>
            <a:off x="4648320" y="1447920"/>
            <a:ext cx="4190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Загробный суд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-другому он называл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вешиванием”. На весах ист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вешивали сердце мертвого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ышко Маат – богини правд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аведливости. Если ве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храняли равновесие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ершего отправляли на рай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я Иару. Но если одна стор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сов перевешивала другую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 пожирало стран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довище с головой крокодил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гами бегемота и туловищ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ь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Содержимое 8" descr="6713.jpg"/>
          <p:cNvPicPr/>
          <p:nvPr/>
        </p:nvPicPr>
        <p:blipFill>
          <a:blip r:embed="rId1"/>
          <a:stretch/>
        </p:blipFill>
        <p:spPr>
          <a:xfrm>
            <a:off x="4724280" y="1295280"/>
            <a:ext cx="3962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Сохранение тел умерши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аление внутренних органов, которые помещали в 4 кувшина-кано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сто внутренностей – соль-натро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ащивание маслом и благовони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ленание полосками полот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Содержимое 4" descr="3796.jpg"/>
          <p:cNvPicPr/>
          <p:nvPr/>
        </p:nvPicPr>
        <p:blipFill>
          <a:blip r:embed="rId1"/>
          <a:stretch/>
        </p:blipFill>
        <p:spPr>
          <a:xfrm>
            <a:off x="4952880" y="129528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умия…или что было под бинт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 складками полосок – амулеты и укра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 – особая мас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ло укладывали в несколько просторных гробов, украшенных текстами и рисунками, относящимися к жизни покойн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обы помешались в саркофаг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Содержимое 4" descr="mummy_Saqqara_AP.jpg"/>
          <p:cNvPicPr/>
          <p:nvPr/>
        </p:nvPicPr>
        <p:blipFill>
          <a:blip r:embed="rId1"/>
          <a:stretch/>
        </p:blipFill>
        <p:spPr>
          <a:xfrm>
            <a:off x="4876920" y="160020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АРКОФАГ – э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евнеегипет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менный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евянный гроб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крашавший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ульптурой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писью. Именно 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е помещался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обни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Содержимое 4" descr="0237952743.jpg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04-27T18:55:2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